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628-2FB5-4B5C-94EA-9D16A24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4CE-5FB0-4D3A-9D6F-E798B73A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36CFC-990B-4D98-8FDD-38350606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28B04-065B-4180-9758-75382358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36700-85AB-40CC-A40A-5DC7755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5B9C5-6914-447C-900E-3C01FC9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B8A3D-8EC1-4876-AAB7-781A3B6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5465E-A507-4053-8CDE-FB2030B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A12DA-1687-4E7B-AA62-962666CF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F98A4-7C0C-4D72-94C7-AF4D31A5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B721-4A5F-4A91-8F8A-FE9E69B6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4D4E1-D4CA-40D6-ACBC-3110EED0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BEC-A66B-46EA-8D44-8D2F0428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9B900-4DCF-4357-8956-9744860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4FB9D-743B-4E7F-834D-75B6B84F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75A00-2ED3-4068-9A58-086A5D8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689A2-EF60-4B24-9CC1-0014E0F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A923-1823-4C9C-B75E-B23ABA8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9429B-3025-48C8-AC04-73B7979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FE81F-45BE-4ECA-A478-6679F0D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9FC90-BE1A-4DCF-BA4D-D5E3124C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C3B31-845C-4505-8811-E9864EB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28399-08CF-44B5-B37F-2D497EA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A8F-196C-4EB9-9B41-ED257CE3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C1B4A-C4CD-4B6C-BF71-28F5796E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DEA75-2079-4E3F-ACE4-1146BDE5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2DE66-A9F2-4F37-ADBF-BD4FE23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38E55-C479-413B-B3D9-3761140B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F15BD-DB0E-4E9D-8CAB-1DA10B7C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C42B1-9E37-4B5E-BC26-23C722C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89B64-434E-4A97-8778-F3CE6EC1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1F4A-C0F3-454D-AD3C-8B54AB4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57BB4-E268-4C35-9EF5-417FB1F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0A763-DC56-4705-8ABB-411C8B9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5749-724F-4E94-80A5-9BEE9162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EA9B2-4436-4890-84A0-508F304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CC54E-E48A-4AB4-B16C-4BB89597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F4869-DCC6-4075-A91C-397B3E34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791EF-A972-4846-9FF7-6B24D049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4A7A8-4F97-4534-B48F-5FA7EEEF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30973-EB39-4FC9-A364-4F24EEC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18A7F-0AAB-48D3-9655-44D5D52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3F12E-8E48-4707-83CD-745FB60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D1E3C-0355-4C9C-9FA3-A2AF286B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24BC4-25DC-4C08-A39D-B461A6D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2F25-9CEC-46B3-9493-54746DDC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4D4EE-C8A2-49E3-AF13-155542AE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D413A-B20D-4C06-8BB8-DDC70A4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3B8AB-A75A-4BD2-8FA2-2A082E9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1A046-77C6-4829-BDE8-C7A865EE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BD5E4-A080-4BA8-AC0D-167E42CE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7C28B-D738-4E58-835C-F7550507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6A33A-33A3-4D22-B507-5B904E0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15395-F330-49A2-AA74-E691C13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6B58E-0333-4C78-968F-62D9AF74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E21C3-43E3-49F5-A73E-462F5656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C18-1C41-4348-9627-9704770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2054A-042E-4031-A4D7-43BDF8FE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DD6BE-82C5-4BC8-A29E-BB600EF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CB39D-4360-42CD-8E55-371D39D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B4E89-1201-4F2C-AA80-A806D47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1CEA1-584B-453F-9D5B-C530E839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D8399-5479-4460-9742-13212645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37CE3-D7C4-498B-927F-63ABA438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9B531-2C43-4913-9FDE-60A8FCE7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0EBDC-7C31-4597-8B94-605C6B70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7B14F-C4FF-4FC0-9DD4-361F26F8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AE1-1506-4A2F-A6E9-12EE7111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3B482-149C-4B71-B31C-E7922B53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9A399-37EA-4972-9963-66C1A981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1F9CD-3995-4B9A-8F87-8E8C641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233A8-5B33-4376-A450-A1941FA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8CDE5-6006-4BAB-AAAD-BFE0F70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8700D-2BCF-469C-B0B3-604063F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7634E-CC30-4C97-9A34-BCB5DFC1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B165D-1C5C-459C-B5E1-E7764EB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4B356-84B4-4E68-9954-8DC6F47C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CA675-1B89-4050-A2EE-0B349B4C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2C8-1E97-4A03-B8F8-7983026E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826A1-3314-4FED-9B54-120DB3C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77A7C-1638-4711-BFE8-8BE554D3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44CD5-5FCF-4E8C-A23C-B4FA109E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80E6D-55B5-4DCE-B69B-D32F098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BCD50-25DF-4579-964C-2A885A36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EA1E2-34D7-469A-8DD3-F57FDC8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AC7A6-259E-4400-B110-4888FF9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B368E-B6B1-42CE-AB03-33ECC94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A0844-628D-4973-949D-A98B6CE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314BE-DB08-4744-BECF-038522C1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9C9F-2D1C-4966-98BF-4E40E5C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7A397-1FF5-4CE5-A5F8-5A78FDBA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0E4-3216-462A-96CE-4B756C9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EA2-C198-4B01-96E1-4EB5DD8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ABCE-9447-4A70-9E05-75AAE279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E5ED-09CE-409D-93A1-48E582CC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047-C7A5-482D-B012-E6C4C1D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9C3-E087-4F7B-91EE-A816DAE4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7D3-807F-498B-8D98-DCBC8158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FA17-14A1-4BB2-B0F4-C5491E5E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D4A1-0664-4F78-A9F7-BF96EF2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6274-A6F3-4C34-B018-3DD7507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29A5-7029-4846-AC73-AACF42F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8355-76A2-49C2-A267-594F206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940-E96D-482A-8791-6ED4A24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1844-0691-440A-BA13-BA7C9717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2780-CD5B-45E3-9DBA-C72FFF5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07D9-C1DA-4405-8366-00591190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4128-59FE-4AC1-AE56-A8EA8B4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F142-AFC8-409E-8257-4540081C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9C5F-C753-459D-97E1-43F195D3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F95B-599A-4ACA-8449-BF472432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CE1D-408B-4937-A248-FF619AF0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2D96-ED05-452B-96E4-3C0EBE6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21A4-6C4E-4CD6-A0DE-28B8925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4FA-A4AB-4071-BD8A-8951213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F11A-F463-43B2-A0DE-DE88818A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7D63-D207-4D53-A1AA-5F191B5C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A5A5-F8A5-41D3-B256-DDC9D58F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B43A-F90A-477F-A62D-DF15FC5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02A2-C958-4337-AE19-885AA1C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590C-92F3-4CE5-A202-305A3544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9EA1-682F-49EA-B0ED-4EF42B96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A385-39A8-4DC7-91E4-F6F2EA68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0C38-508F-42B4-8598-9C278047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8D6A4-8980-49B9-A11F-2629EA16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270-F838-49DE-BC75-E6E3EC5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4651-4E14-4157-802E-CF9F2987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01CA-2095-4B08-8374-D59A6B08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E52A6-96BB-422A-9C1F-DEBF229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F0BA-61FA-4FFD-B457-B99B1C5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F7AA-087A-4339-86EA-BA2281BC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EB33F-5A0F-45B8-ADD5-C5D39BFE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35433-2370-403B-88C9-6190254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CBE6-C3C1-42ED-ACE5-AEF6202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42B14-8DF7-48D6-A059-19E1488B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96EB-CA3F-4C87-BCE2-110C999C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A3A-DB11-478E-ACB0-FF9D42D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7CE7-1AF4-4050-8D6D-423A611A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0EC33-DFCF-4B8E-AF07-674A8C9C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171E-6AB8-4EE9-BD44-FCA191B6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8C04-5F6D-43C9-89E7-E972C52E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4405F-157D-46C1-8867-BE714096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76E7D-29EC-4F70-8C22-43E0FACE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20FA-F5B8-4804-8675-0591078C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207DC-0484-4EFF-9624-5724275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6583-529D-412D-90E8-2C5C84D4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E119-0CFF-454C-B4CC-998DF9D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CC0-BC3B-41BB-9AB4-5CCCFF6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DC1F-AC0B-4EFE-A660-6003163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8DA8-DE7D-41EA-B9AB-BECB796E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B04D-6AE2-4D7C-B197-702F8A90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044C-70CE-4AB3-9181-984AE810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AD1E-D6C2-42C1-83FF-4F81108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294D-D399-4CCD-ABCB-CA60967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51B1-4EC7-4775-AA23-47007A5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04115-C735-45AC-A1D0-821AEC4B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ECADA-5440-481E-B9B2-DD7816D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1E4C-2A82-4D14-AE97-BA4C16D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31C-E087-4D61-8DB4-28B67CA4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A361-A877-451D-AE2F-78F0B3C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A2F0B-19FE-4E7A-AD3E-55FA2DA6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BF191-90A5-489F-A6FA-10937FF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DD044-A0EC-436D-93DE-0EDF3A5E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1730-2C46-4FF2-8F89-69C696C9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7216-88BE-45E1-826E-EBD3B524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B862C-C478-4FC1-BAB1-61D56E79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15A8C-7737-4D2E-A83F-C7CE6E2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9CDF-1481-44B5-A5AB-4E833A5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A43E8-0666-428E-B64E-B1702A8D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F12-1935-458F-A642-2EE3644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977B-E919-43C2-A6CF-6431ED05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1B71-1C6C-4DEC-9D5C-CBD0807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BD9B-ABFB-42FA-8A20-A15EF49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83339-ECAC-4666-BD45-327D9D2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12B93-11DD-4E26-B4F8-26E98B13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A9C8F-0312-48F0-84CD-E49860FD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2ACE-6ADD-48FB-9559-D0688E2C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DA33B-FD97-4886-9EA3-7609443A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CFCAB-FEE2-4A67-8CE4-ED874A24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65733-EC11-4BC4-AAED-C5769149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850B5-F5BA-4C25-9391-14C112E70674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663AE-FA09-418C-B174-EAF319773788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9C1DB-9F28-4FD5-9193-4E4E56C8329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14CA3-6B2A-4329-9486-E4C2B4089AAA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B3089-26A8-4346-8066-AC408D324C3A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6A059-60DA-4A79-9B22-8DCAB5C7D4F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461B5-FD4C-44D1-98AB-C51CCBBEC5E0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89694-538F-4F99-968A-9A6E4FF0A56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F860B-8E4D-49DE-99EA-1CF40022957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38391-9F2D-4B63-8326-D73E028B5DF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2DFD1-9CF2-48A7-AF92-981AA7D85E5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49E49-0989-45DB-BBB7-38E90E242708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8298B-6E84-44C9-A3B5-0E8724BEBF75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B3F97-C152-4341-A778-DF852490D41A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97E70-53F8-4F23-88B6-478A4362949C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2A372-F2BA-4F6C-8AC3-1A5700615879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33F1A-058A-4618-9210-E89F52798E0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408D9-2DAB-49B3-9D70-53372C62B49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4C4A4-066D-4B51-AE45-E805E5219F05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A0749-F22B-4630-B8D2-DC3CFD00727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A1570-34D1-46E8-957F-3C62345315B3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834FE-EE2B-4F7E-AED5-8DA1FDD57E2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E4CAD-4310-4C5A-ADAE-65FC340B6053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EA0BC-EB41-4281-B9B3-8808779A0911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EBA8D-F2D2-4E45-A9AB-0BF418D40F6A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7E357-B6B3-49AD-B740-A4E29E57B0AC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CA0F5-EFD6-4ADF-B7FF-1ABE72F40FE5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497EC-08AE-4B75-839E-452C8F10B861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6AC8-5ADC-4A46-92DC-AE31F63A9C61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40584-D012-4095-9EC2-7D6DD3265FE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emistryonthebrain.wikispaces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emistryonthebrain.ning.com" TargetMode="External"/><Relationship Id="rId3" Type="http://schemas.openxmlformats.org/officeDocument/2006/relationships/hyperlink" Target="http://chemistryteacher08.blogspot.com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My Plans for usage of information and skills learned in IT-7240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haron Hollowa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3" name="Picture 3" descr="sharon.jpg"/>
          <p:cNvPicPr/>
          <p:nvPr/>
        </p:nvPicPr>
        <p:blipFill>
          <a:blip r:embed="rId2"/>
          <a:stretch/>
        </p:blipFill>
        <p:spPr>
          <a:xfrm>
            <a:off x="3809880" y="4925880"/>
            <a:ext cx="1549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ikispac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created a wikipage for my students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50b"/>
                </a:solidFill>
                <a:uFillTx/>
                <a:latin typeface="Calisto MT"/>
                <a:hlinkClick r:id="rId2"/>
              </a:rPr>
              <a:t>Http://chemistryonthebrain.wikispaces.c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Uses for Wikipage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ost announcemen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ost assignmen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ost power poin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list cool educational websit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compile and showcase student projects (power points, podcasts, videos etc…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Blog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created a blog spot that is linked from my wikipag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access it directly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50b"/>
                </a:solidFill>
                <a:uFillTx/>
                <a:latin typeface="Calisto MT"/>
                <a:hlinkClick r:id="rId2"/>
              </a:rPr>
              <a:t>http://chemistryonthebrain.ning.com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50b"/>
                </a:solidFill>
                <a:uFillTx/>
                <a:latin typeface="Calisto MT"/>
                <a:hlinkClick r:id="rId3"/>
              </a:rPr>
              <a:t>http://chemistryteacher08.blogspot.com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n  the Blog sites I chose my students are able to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o personalize their pag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dd photo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dd video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34:05Z</dcterms:created>
  <dc:creator>College of Education</dc:creator>
  <dc:description/>
  <dc:language>en-US</dc:language>
  <cp:lastModifiedBy>College of Education</cp:lastModifiedBy>
  <dcterms:modified xsi:type="dcterms:W3CDTF">2009-08-08T17:00:31Z</dcterms:modified>
  <cp:revision>5</cp:revision>
  <dc:subject/>
  <dc:title>My Plans for usage of information and skills learned in IT-7240</dc:title>
</cp:coreProperties>
</file>